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88A-11AC-4DF4-BDC4-67A05D2F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46F-30A4-41ED-B2D4-81A734CB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311-4AD7-45C8-8608-B99B3A8D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935-B46B-463A-AAB1-FEB5286F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21A7-061A-4F8C-8694-26FC33C1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EABF-51E8-4738-B62F-FCF36AB2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E588-016B-4500-9C57-DCC0CDEB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DECA-990D-4A3A-914C-683A777E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3D6F-D1FF-40D9-9FF1-FF808CD0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4405-B4B2-4803-8487-6B3DC9EF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EAE6-A4A3-4672-B69D-85A947FE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05F0-0D46-492E-8068-9603F0FB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D781-54C5-4A7B-8580-52DCB138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2AF6-79C4-4DD6-9EDF-1EC3AD0B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72D1-6FB3-4DBF-81C8-50695105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34D6-1D12-477A-9365-1C395599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7DA4-241F-4BFA-B842-52655D6C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23EB4-FB2B-48A1-8EE0-A202A522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E23B5-7CD8-4D44-9A4D-ED182C9C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AF123-AFFD-4F2B-BBFC-8B7E0B53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ACAC3-AE9A-4C28-88F8-99974053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8C1B-5BDA-47E1-9CD2-763A1A18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B7F7-BA8C-441E-8475-3FE488C6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155C1-5ACE-4C5C-8199-E2DE4E84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FB792-C4AD-464C-89F4-B68E4E0D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7F9CE-2AB9-4150-BBB2-603C171A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2984A-4547-44D9-B995-499E3639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BD013-CE26-4F76-B899-8BD3EBA0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990F6-E8CF-4C4F-B734-96686113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3AC1D-0543-415B-8364-E710A986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64C20-EF8B-46A4-94A1-5B0F2C34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3EEB0-7D36-4980-B34F-35A50CE8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5B45-CE35-4213-BA71-ADBCF004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047-07FD-430A-B613-AC8DB128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24236-7FD9-420F-AA61-60A980EC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6F061-449B-43F5-9E82-C47271A2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06223-F527-48D6-B129-44991159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871A3-42D4-44DF-B339-6E056C7C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8ED2E-ED82-4009-970C-564C3EEA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304BA-401D-4600-B5C1-3CC94362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A7D3B-4689-4A57-A3AE-40258336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4558E-3DA4-43F7-BAC5-28E783D2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F543D-0259-4E16-99B3-F64750E9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6DE85-2521-416B-8FFB-51EF32BB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084-EC62-45E7-9BCA-760C17C4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9E2B9-27BD-4EC5-9CF6-71F1050A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17367-E200-496E-9A9A-5C3DF1CB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615A1-3A79-4E14-9EF3-667895E4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2C635-444F-4271-901A-39E14B17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5E5F2-8662-435F-977A-5AF80B0B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2C8C7-6CEA-4B36-B6DA-9D33B41D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CC050-0EDA-4EE5-96BE-743DB92B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4C445-0FD0-4975-BA26-F522EFE7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5822D-7CB9-4315-85DE-BA287319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59EBB-A8C3-43D7-B3D1-5A92C199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21D-FD7D-421F-9B1F-AD72E572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9671A-4C63-4B5F-A15C-1489CD8D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F97F4-4234-4B48-B73D-61679CDC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DB5C4-219C-4B65-BCDA-ACD081AB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C7A3E-6723-4958-8F7E-8F7AB047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BEC79-0118-47CE-9A2C-BCB08A8A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B8F4F-FAAD-46D3-990D-F4004678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021FD-EACB-430B-9977-93B70A1D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AE66C-4A02-4D68-91E6-42A13DC4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0B851-016F-4256-9F1C-11F0F3E1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146F9-8FBB-448A-B01F-CDA0E478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001-9F2A-40F6-9153-53127B9E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2ECC0-2212-4F39-86F3-630D5E4F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047CB-3072-4AFE-BB4A-236FFC99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9ED8B-283A-4252-A4AF-21629333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0CB61-8B3D-4A98-B0D2-A81D5AFF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E838B-0DD8-4AFB-9655-67E2ED76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534CB-8736-42E9-B8E0-D414769B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79826-87C9-44BB-BEFC-EDDCE233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E3E2C-3316-4646-8F56-2F3E3FDE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9229F-AB89-43A3-AA44-E62FE421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7A50C-4252-4EC8-BA39-10617BD6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9A2-E377-4E22-A4FD-26489450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E6595-C04D-4ADD-A1A2-CD97EFDC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35B78-B48E-4881-B7EB-77DCB8B1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61818-5553-4CD4-90D0-EB851C60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0BEEA-2C74-441D-B6C4-9CF1B1F8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E2F6A-A941-4799-BE38-747E8EB2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BE502-12ED-407B-BB70-4D34BB58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4C4AB-F7FB-49D6-A11F-F83D023A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B3B41-A635-4260-A333-3A5871F5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A1584-EB58-49AE-9FB1-F39DDE9B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A6F02-40E7-4131-BF21-093001D2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69F-E3D4-4C2D-BD8C-21B5A823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EFD88-F7BE-4279-8844-93556FF6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78449-0B6B-4658-8006-14110097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0BCCB-0FD1-45CA-B710-39C4D469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C45D0-227B-4A13-AD0C-B83FA5A3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32C2D-AC7F-464A-B5E8-FF4DAED4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FAEEB-9BE4-4F50-9C07-F00D8121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BA03C-D2C0-4A06-B1D4-8725DDD1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28A7-6A22-4209-901C-3F0EB77A2E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EFE8-B9BD-4C78-AC5C-CFA35D8DD328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0A07-7092-452F-8330-B09E6C82EF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D494-1352-4B8E-8871-2D7371FA61B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FE28-3FEC-47CC-BFB7-4A24C2C88D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D5DD-65D6-4178-876C-2379857965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CECC-58A3-4475-BE21-932631156321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B1A3-9604-4E27-A491-584FBD8850AF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633240" y="212760"/>
            <a:ext cx="8169480" cy="204948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2" descr="mini1.jpg"/>
          <p:cNvPicPr/>
          <p:nvPr/>
        </p:nvPicPr>
        <p:blipFill>
          <a:blip r:embed="rId2"/>
          <a:stretch/>
        </p:blipFill>
        <p:spPr>
          <a:xfrm>
            <a:off x="2000160" y="2643120"/>
            <a:ext cx="46720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5200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Возможно ли научить микросхемы думать?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6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1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Радиоприемник без питания!!! Реально это или нет?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Как распространяются радиоволны?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242560" cy="17254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49e"/>
                </a:solidFill>
                <a:latin typeface="Arial"/>
              </a:rPr>
              <a:t>Расширить знания у учащихся в области радиоэлектроники, ориентировать на профессии, связанные с радиоэлектроникой, и облегчить подготовку к поступлению в технические ВУЗы. Курс «Основы радиоэлектроники» помогает углубить и расширить знания по теме «Электродинамика и радиофизика»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450720" y="-23760"/>
            <a:ext cx="8242560" cy="16938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214200" y="1213920"/>
            <a:ext cx="521496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371160" algn="just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Расширение практической части учебной программы по «Электродинамике» и формирование экспериментальных умений учащихся при обучении физик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 algn="just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Развитие творческой самостоятельности учащихся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 algn="just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Усиление связи обучения с жизнью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5" name="Рисунок 3" descr="030_1.jpg"/>
          <p:cNvPicPr/>
          <p:nvPr/>
        </p:nvPicPr>
        <p:blipFill>
          <a:blip r:embed="rId2"/>
          <a:stretch/>
        </p:blipFill>
        <p:spPr>
          <a:xfrm>
            <a:off x="5715000" y="1714680"/>
            <a:ext cx="31100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49e"/>
                </a:solidFill>
                <a:latin typeface="Times New Roman"/>
              </a:rPr>
              <a:t>Что такое Радиоволны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49e"/>
                </a:solidFill>
                <a:latin typeface="Times New Roman"/>
              </a:rPr>
              <a:t>Как устроены различные радиодетали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49e"/>
                </a:solidFill>
                <a:latin typeface="Times New Roman"/>
              </a:rPr>
              <a:t>Как сконструировать простейший радиоприемник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420840" y="55440"/>
            <a:ext cx="8491320" cy="18525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504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Физика радиодеталей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Радиоволны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Конструирование простейших радиоприемников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Century Gothic"/>
              </a:rPr>
              <a:t>Перспективы развития радиотехники и радиоэлектроники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Рисунок 4" descr="attachment126.jpeg"/>
          <p:cNvPicPr/>
          <p:nvPr/>
        </p:nvPicPr>
        <p:blipFill>
          <a:blip r:embed="rId2"/>
          <a:stretch/>
        </p:blipFill>
        <p:spPr>
          <a:xfrm>
            <a:off x="5000760" y="2428920"/>
            <a:ext cx="38005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6-04T19:55:14Z</dcterms:modified>
  <cp:revision>2</cp:revision>
  <dc:subject/>
  <dc:title>ОСНОВЫ РАДИОЭЛЕКТРОНИКИ </dc:title>
</cp:coreProperties>
</file>